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819-F8E5-4293-AAD0-601235CD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A4F-1E9E-4618-B1F5-8B72A0D2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9DF-50E5-48FA-BA6B-008B8D8E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BFD-A6D3-4F8D-9030-FED9D6AE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84E-79F2-4D24-86E7-C5404469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775-1561-43B8-BC7F-97F35BEA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1AF-4F39-4F06-B206-894CFD51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BA3-7E04-4638-8B45-237ECC2D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C6E-7685-4413-8A59-C3AC3FA7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765-1933-4885-8736-874A2300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C9F-5C12-4CD3-A599-13161069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CE97-960A-4B4E-982D-488AC979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1A3E-F9B2-41C8-97E1-46B956172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img.movieberry.com/static/photos/17868/poster.jpg&amp;imgrefurl=http://www.movieberry.com/thirteen/&amp;usg=__ceo8ta_W2IwejdQZ-JQlkRbL2OQ=&amp;h=600&amp;w=400&amp;sz=39&amp;hl=en&amp;start=73&amp;zoom=1&amp;um=1&amp;itbs=1&amp;tbnid=e62L8Jjk59WObM:&amp;tbnh=135&amp;tbnw=90&amp;prev=/images%3Fq%3D13%2Bcatherine%2Bhardwicke%26start%3D60%26um%3D1%26hl%3Den%26safe%3Dactive%26sa%3DN%26ndsp%3D20%26tbs%3Disch: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ungsuh"/>
              </a:rPr>
              <a:t>thir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lm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76280"/>
            <a:ext cx="1632240" cy="244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Thirteen"/>
          <p:cNvPicPr/>
          <p:nvPr/>
        </p:nvPicPr>
        <p:blipFill>
          <a:blip r:embed="rId3"/>
          <a:stretch/>
        </p:blipFill>
        <p:spPr>
          <a:xfrm>
            <a:off x="6588000" y="476280"/>
            <a:ext cx="2152800" cy="198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Thirteen"/>
          <p:cNvPicPr/>
          <p:nvPr/>
        </p:nvPicPr>
        <p:blipFill>
          <a:blip r:embed="rId4"/>
          <a:stretch/>
        </p:blipFill>
        <p:spPr>
          <a:xfrm>
            <a:off x="468360" y="4869000"/>
            <a:ext cx="2400120" cy="1647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588000" y="5157720"/>
            <a:ext cx="206388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uty/Fashion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lm also draws an explicit connection between the girls and the cultural forces at work in their li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ame after frame implicates the beauty and fashion industry for promoting sexualized ima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images illustrate a pervasive theme from the girls in crisis discourse, presenting a culture that “encourages girls to consume products…to sedate their natural and understandable pain” (Pipher 1994, 20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such diminished adult support at home, how can these girls be expected to withstand such pervasive messages about the maintenance and presentation of the female bod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 H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cy ultimately resorts to self-destructive activity such as cutting herself to deal with the stress of her lif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y Pipher offers several metaphorical meanings of self-mutilation, what she refers to a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concrete interpretation of our culture’s injunction to young women to carve themselves into culturally acceptable pieces” (1994, 15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nging from submission to protest, from plea for help to assertion of power, all of these meanings can be seen in Tracy’s self-muti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ent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kki Reed, who portrayed Evie in the film, wrote the film with director Catherine Hardwicke based in part on her own experien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nvolvement leant authenticity – and increased anxiety – to the 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authenticity, of course, led to an R-rating for the fi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Annika Hymlo laments, the reality of girls’ lived experiences is largely deemed inappropriate to be shared with other girl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a result, teens themselves often see only a “softened version of girls’ reality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ironic is a ratings system that refuses to acknowledge the disconnect between what teens are allowed to witness onscreen and actual teenage behavior off-scre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le society is quite comfortable looking at the adolescent female body, there are some things, apparently, we just can’t talk abou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irte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ggests that parents can be the hero of the narrati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even Mel, who is flawed, as a somewhat distracted recovering alcoholic, can provide this support, any parent can find a similar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emphasize Mel’s success in resolving her daughter’s crisis, the final image of the film shows Tracy, alone, independent of both Evie and Mel, whirling around dizzyingly on a playground, far away from the judgmental and provocative eyes of the billboards and magazi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, even as she spins “out of control,” Tracy is as safe; even though she is outside, her body is appropriately contai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a result of Mel’s love and support, the drama is resolved and Tracy is safe, both emotionally and physical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male Sexua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rteen, it is pathological and symptomatic of unhealthy and dangerous behavi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 is seen in a continuum with other activities like self harm and drug ab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racey’s mother, her daughter having sex is a cause for concern and wor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racey, it symbolises her status and rebell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 that for teenage girls, talking about sex with your friends is just as important as the act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 is a symptom of deep unrest and instability for the girls. A symbol of de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emale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thleen Rowe Karlyn - “the teen girl body is portrayed as the battleground for the most compelling dramas of [the teen’s] lif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seems ironic that in a culture so saturated with the sexualized imagery of teenagers, there is a narrow range of acceptable representations of adolescent sex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exual bodies of girls on film need to conform not only in aesthetic demands in terms of shape and colour, but also to generic demands of various narrati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worst, their bodies are decorative, but even when the adolescent female is a key figure in the narrative, her body and sexual agency typically provide a context for someone else’s story rather than a plot of her ow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her/Daughter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nal chapter of the film offers salvation in the form of maternal lo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Mel recognizes the depth of Tracy’s self-destructive behaviour, she intervenes forcibly, literally surrounding Tracy in a maternal embrace that simultaneously supports her and restrains 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 emotionally charged scene, Mel interposes her own body between her daughter’s and the unseen forces that have sought to destroy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ene occurs in the kitchen of their small home, significant not only because it has been the location for several conflicts throughout the film but also as a powerful domestic image, reinforcing the feminine role of both mother and daugh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rls in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cey is the archetypal ‘girl in crisis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pite the film’s focus on Tracy (she appears in virtually every frame of the film), the narrative leaves little doubt that Tracy is not in control, that she is a victim of her circumstances and socie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hough Tracy and Evie feel temporarily powerful as a result of their actions, they are understood to be on a self-destructive pa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out the support and intervention of adults, these girls will get into more serious situ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e film, like the girls in crisis discourse, lays the responsibility for intervention first and foremost on pa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out the film, the narrative revolves around Tracy, and the director uses a variety of techniques to keep the viewer linked to 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we are not looking at her, we are seeing the world through her ey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racy’s world becomes destabilized, the film reflects that disruption, using unsteady camera work and jarring fram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racy loses the ability to see clearly, the film becomes similarly out-of-foc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rony, of course, is that the narrative is not so much about what Tracy does as what others do to 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distinction underscores the importance of Tracy’s body as a site of personal and cultural confli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cy literally turns her body over to Evie, letting her have significant influence over her clothes, her piercings, and her a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though Evie is the most obvious agent of Tracy’s downward spiral, the film does not construct her as a one-dimensional bad-se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ke Tracy, Evie has been set up for this f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th girls are being raised by single women in households that have been affected by drug and alcohol ab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cey v Ev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demonstrate Tracy’s fall, the film makes sure to show how normal, and how healthy, she is at the beginning. Tracy is coded as a good kid in a few key sce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she elects to read one of her original poems to her mother, M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isclosure of a personal piece of writing full of dark images reveals the closeness of the mother/daughter relationshi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udience also recognizes Tracy’s good girl status because her nerdy friends do not conform to traditional standards of beau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dark-skinned and shaped like little girls, and, like Tracy, their clothing does little to accentuate their feminin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cey v Ev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friends are also the visual opposites of Evie Zamora, the eighth grade vixen in low-slung jeans, a siren whose iconic status is confirmed by Tracy’s brother when he confirms her “hottest girl” title in an early expository convers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vie’s ethnic status is problematic as well. Her surname suggests that she is Hispanic, but her outward appearance does not accentuate that ident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ctress portraying Evie is of Jewish and Italian ancest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ie’s ethnic coding allows her to be white enough to be perceived as traditionally attractive, but also vaguely ethnic enough to be perceived as a threat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racy’s quest to become popular, she sets her sights on becoming Evie’s friend, and she succeeds, leading to the drug-induced violence of the opening scene, and many more scenes of adolescent devi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9:41:00Z</dcterms:created>
  <dc:creator>gbrolly940</dc:creator>
  <dc:description/>
  <dc:language>en-US</dc:language>
  <cp:lastModifiedBy>niall</cp:lastModifiedBy>
  <dcterms:modified xsi:type="dcterms:W3CDTF">2010-11-06T14:39:05Z</dcterms:modified>
  <cp:revision>6</cp:revision>
  <dc:subject/>
  <dc:title>13</dc:title>
</cp:coreProperties>
</file>